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Seuss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330720" y="144360"/>
            <a:ext cx="23079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Lorax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01840" y="217440"/>
            <a:ext cx="15224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01840" y="217440"/>
            <a:ext cx="15224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548640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did the fish end up after The Cat in the Hat f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6000"/>
          </a:blip>
          <a:srcRect l="0" t="0" r="0" b="53337"/>
          <a:stretch/>
        </p:blipFill>
        <p:spPr>
          <a:xfrm>
            <a:off x="3429000" y="380880"/>
            <a:ext cx="198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ap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>
            <a:lum bright="-6000"/>
          </a:blip>
          <a:srcRect l="0" t="0" r="0" b="53337"/>
          <a:stretch/>
        </p:blipFill>
        <p:spPr>
          <a:xfrm>
            <a:off x="3429000" y="380880"/>
            <a:ext cx="198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241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rding to the story, why did the Grinch hate Christm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971800" y="446040"/>
            <a:ext cx="25988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 heart was too sm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971800" y="446040"/>
            <a:ext cx="25988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18148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wants the cat in the hat to go awa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4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f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52480" y="4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Thing One and Thing Two like to play with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0" b="28431"/>
          <a:stretch/>
        </p:blipFill>
        <p:spPr>
          <a:xfrm>
            <a:off x="3429000" y="228600"/>
            <a:ext cx="1689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"/>
          <p:cNvSpPr/>
          <p:nvPr/>
        </p:nvSpPr>
        <p:spPr>
          <a:xfrm>
            <a:off x="3355200" y="1676520"/>
            <a:ext cx="2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pir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3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28431"/>
          <a:stretch/>
        </p:blipFill>
        <p:spPr>
          <a:xfrm>
            <a:off x="3429000" y="228600"/>
            <a:ext cx="1689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75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25780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happens to Fox in Sox at the end of the stor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6490"/>
          <a:stretch/>
        </p:blipFill>
        <p:spPr>
          <a:xfrm>
            <a:off x="3429000" y="682560"/>
            <a:ext cx="2209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533412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is pushed into the bottle by Knox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rcRect l="0" t="0" r="0" b="16490"/>
          <a:stretch/>
        </p:blipFill>
        <p:spPr>
          <a:xfrm>
            <a:off x="3429000" y="682560"/>
            <a:ext cx="2209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7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3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413160"/>
            <a:ext cx="2130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-6000"/>
          </a:blip>
          <a:srcRect l="0" t="0" r="0" b="53337"/>
          <a:stretch/>
        </p:blipFill>
        <p:spPr>
          <a:xfrm>
            <a:off x="4268880" y="2360520"/>
            <a:ext cx="898560" cy="1067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81080" y="-14400"/>
            <a:ext cx="1305000" cy="117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1095480" cy="11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77120" y="-171360"/>
            <a:ext cx="1131840" cy="146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057400" y="2330280"/>
            <a:ext cx="6494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248520" y="2286000"/>
            <a:ext cx="1276200" cy="1324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990720" y="44020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rcRect l="0" t="0" r="0" b="28431"/>
          <a:stretch/>
        </p:blipFill>
        <p:spPr>
          <a:xfrm>
            <a:off x="4343400" y="4419720"/>
            <a:ext cx="896760" cy="1295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020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rcRect l="0" t="0" r="0" b="16490"/>
          <a:stretch/>
        </p:blipFill>
        <p:spPr>
          <a:xfrm>
            <a:off x="6627960" y="4653000"/>
            <a:ext cx="112392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43200" y="2209680"/>
            <a:ext cx="41274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at in the Ha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66880" y="2209680"/>
            <a:ext cx="43563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ort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0" y="2286000"/>
            <a:ext cx="4572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lain Bellied Sneec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209680"/>
            <a:ext cx="464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 Bellied Sneec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8120" y="2209680"/>
            <a:ext cx="389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r. Seu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286000"/>
            <a:ext cx="466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isy-Head Mayzi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2362320"/>
            <a:ext cx="458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e Grinc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2286000"/>
            <a:ext cx="458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m I A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3720" y="2209680"/>
            <a:ext cx="4647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ox in Sock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43160" y="3413160"/>
            <a:ext cx="2101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-6000"/>
          </a:blip>
          <a:srcRect l="0" t="0" r="0" b="53337"/>
          <a:stretch/>
        </p:blipFill>
        <p:spPr>
          <a:xfrm>
            <a:off x="5051520" y="2360520"/>
            <a:ext cx="898560" cy="1067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763720" y="-14400"/>
            <a:ext cx="1305000" cy="1176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049720" y="0"/>
            <a:ext cx="1095480" cy="115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259760" y="-171360"/>
            <a:ext cx="1131840" cy="146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840040" y="2330280"/>
            <a:ext cx="649440" cy="107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7031160" y="2286000"/>
            <a:ext cx="1276200" cy="13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1828800" y="439740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rcRect l="0" t="0" r="0" b="28431"/>
          <a:stretch/>
        </p:blipFill>
        <p:spPr>
          <a:xfrm>
            <a:off x="5126040" y="4419720"/>
            <a:ext cx="89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rcRect l="0" t="0" r="0" b="16490"/>
          <a:stretch/>
        </p:blipFill>
        <p:spPr>
          <a:xfrm>
            <a:off x="7410600" y="4653000"/>
            <a:ext cx="1123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486400"/>
            <a:ext cx="89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ONE FISH, TWO FISH, RED FISH, BLUE FISH, Ned does not li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0880"/>
            <a:ext cx="26668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ittle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26668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556272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stripes are on The Cat in the Hat's ha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24130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4130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8720" y="563868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Cat in the Hat eat in the bathtub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330720" y="144360"/>
            <a:ext cx="23079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Connie Campbell</cp:lastModifiedBy>
  <dcterms:modified xsi:type="dcterms:W3CDTF">2007-03-04T21:29:38Z</dcterms:modified>
  <cp:revision>32</cp:revision>
  <dc:subject/>
  <dc:title>No Slide Title</dc:title>
</cp:coreProperties>
</file>